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20.wmf" ContentType="image/x-wmf"/>
  <Override PartName="/ppt/media/image11.gif" ContentType="image/gif"/>
  <Override PartName="/ppt/media/image19.gif" ContentType="image/gif"/>
  <Override PartName="/ppt/media/image4.wmf" ContentType="image/x-wmf"/>
  <Override PartName="/ppt/media/image10.png" ContentType="image/png"/>
  <Override PartName="/ppt/media/image18.gif" ContentType="image/gif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14.gif" ContentType="image/gif"/>
  <Override PartName="/ppt/media/image1.jpeg" ContentType="image/jpeg"/>
  <Override PartName="/ppt/media/image15.wmf" ContentType="image/x-wmf"/>
  <Override PartName="/ppt/media/image5.gif" ContentType="image/gif"/>
  <Override PartName="/ppt/media/image6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809880" y="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914040" y="7621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9372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809880" y="937260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FD9C-6709-43FB-9A71-999C849268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njour, nous allons vous présenter la section comptabilité du lycée Professionnel Édouard Bran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nsi que l’initiation aux nouvelles technologies et l’apprentissage de la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s le domaine générale comme dans le domaine professionnel figurent 6 matiè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titulaires du Baccalauréat Professionnel peuvent entrer dans la vie active, poursuivre une FCIL ou des études supérie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’est ce que la FC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oursuite des études après le Bac professionnel comptabi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i les commandes pour le bon déroulement de ce Cd 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différents points à savo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ns à la découverte des métiers de la comptabilité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 cela il vous suffit de cliquer sur l’un des gros titres et de vous laisser gui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s l’entreprise on retrouve le service comptabilité ainsi que d’autres services, pour les consulter cliquez sur l’un des deux tit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 plan comptable est le document de base qui permet d’enregistrer déférentes opér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i un exemple d’opération comptable dans le cas d’une vente de marchandise et d’un règlement du client par chèque banca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comptabilité ne peut se passer du service secrétariat et parfois du service commercial. La photo illustre le matériel que l’on peut trouver dans ces bureaux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i les formations vous pouvez cliquer sur l’une d’entre elles  pour les découvr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B.E.P. vous apprendrez l’étude de l’organisation et l ’étude technique de base des métiers de la comp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2C1D-B561-436D-B249-DCB04D15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E22-F7FF-4480-B8FA-1C0360F6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7D20-52E0-4B7F-BED7-674ECCC6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1BFB-C134-4667-8771-DD06BCAD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7A88-A14F-4FFB-85E2-2BAD185D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A265-27E7-448D-9A2A-CAEE9695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8D30-A08F-4242-BA24-FF05CA87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1BF1-2DC4-4346-84FE-90889977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0A0A-A542-4C39-A7AF-72B25781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72DD-9E06-4C37-97B2-D8A41C11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0517-0727-4BE3-8415-6016444B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D5A-6BE5-4704-BFC6-1B442BD4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A135-9CC3-45DF-B750-00009A04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AC58-77FF-46F8-A515-6E7D79DA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33CB-6DA1-4305-B1A7-C1752F53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B08E-CC36-42DD-BD73-0525CFE5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745A-5F4E-48CD-90F4-3DAB3873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69F6-D7B3-40E1-8EE9-FE2496A4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1B7-EFA8-4A2E-B3B7-C597017B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C55F-D5A9-463E-A196-70D47076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91D-D621-4A38-87C2-922693E4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DA7A-FBA9-4CB9-ABB2-35C8900B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F90-C715-4B46-8888-7B735B23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1FBC-1D1E-4CA4-9E80-4E63FE38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AEAE-EF5E-417E-9789-8957F8206D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169B-DCE3-4847-BB4D-1F88E9DA63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610480" y="22860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11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2.gif"/><Relationship Id="rId3" Type="http://schemas.openxmlformats.org/officeDocument/2006/relationships/slide" Target="slide8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5.xml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6.xml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3.xml"/><Relationship Id="rId3" Type="http://schemas.openxmlformats.org/officeDocument/2006/relationships/slide" Target="slide18.xml"/><Relationship Id="rId4" Type="http://schemas.openxmlformats.org/officeDocument/2006/relationships/slide" Target="slide3.xml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hyperlink" Target="http://www.ubisoft.fr/sites/artsfactory/cdrom/pedag/images/animmain.gif" TargetMode="External"/><Relationship Id="rId3" Type="http://schemas.openxmlformats.org/officeDocument/2006/relationships/image" Target="../media/image14.gif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slide34.xml"/><Relationship Id="rId3" Type="http://schemas.openxmlformats.org/officeDocument/2006/relationships/slide" Target="slide3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24.xml"/><Relationship Id="rId5" Type="http://schemas.openxmlformats.org/officeDocument/2006/relationships/slide" Target="slide24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5.gif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slide" Target="slide3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5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slide" Target="slide8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au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304920" y="15238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La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comptabilit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457200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L.P. 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douard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 Branl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compta%20salle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660480" cy="2531880"/>
          </a:xfrm>
          <a:prstGeom prst="rect">
            <a:avLst/>
          </a:prstGeom>
          <a:ln w="0">
            <a:noFill/>
          </a:ln>
        </p:spPr>
      </p:pic>
      <p:pic>
        <p:nvPicPr>
          <p:cNvPr id="158" name="exterieur%20Branly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825720" cy="2817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-2057400" y="9907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0880" y="1676520"/>
            <a:ext cx="8458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’initiation aux nouvelles technologies   : informatique de bureau, apprentissage de logiciels tels que WORD, EXCEL, ACCESS… et des logiciels comptables…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’apprentissage de la communication écrite ou ora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’initiation à l’économie générale, le droi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’enseignement général : mathématiques, français, langue vivante 1 (anglais), langue vivante 2 (espagnol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1676520"/>
            <a:ext cx="5715000" cy="3808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-1371600" y="2133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64" name="">
            <a:hlinkClick r:id="rId2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>
            <a:hlinkClick r:id="rId3" action="ppaction://hlinksldjump"/>
          </p:cNvPr>
          <p:cNvSpPr/>
          <p:nvPr/>
        </p:nvSpPr>
        <p:spPr>
          <a:xfrm>
            <a:off x="8610480" y="15228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1880" y="61610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>
            <a:hlinkClick r:id="rId4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0" y="-360"/>
            <a:ext cx="9144000" cy="28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stellar"/>
                <a:ea typeface="Arial"/>
              </a:rPr>
              <a:t> 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1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6094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n BEP métiers de la Comptabilité, les travaux professionnels de technologies nouvelles sont basés sur la comptabilité avec malgré tout du traitement de tex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BD13628_" descr=""/>
          <p:cNvPicPr/>
          <p:nvPr/>
        </p:nvPicPr>
        <p:blipFill>
          <a:blip r:embed="rId2"/>
          <a:stretch/>
        </p:blipFill>
        <p:spPr>
          <a:xfrm>
            <a:off x="2362320" y="2743200"/>
            <a:ext cx="3886200" cy="3247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3276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Un stage de 3 semaines en entreprise se déroule en fin d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econd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professionnel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>
            <a:hlinkClick r:id="rId3" action="ppaction://hlinksldjump"/>
          </p:cNvPr>
          <p:cNvSpPr/>
          <p:nvPr/>
        </p:nvSpPr>
        <p:spPr>
          <a:xfrm>
            <a:off x="8610480" y="22860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81880" y="61628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>
            <a:hlinkClick r:id="rId4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>
            <a:hlinkClick r:id="rId5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28600" y="1295280"/>
            <a:ext cx="868680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baccalauréat professionnel "Comptabilité" est un diplôme du ministère de l‘Education Nationale qui s'adresse aux élèves intéressés par toutes les activités de bur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0288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809880"/>
            <a:ext cx="91440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s élèves effectuent 16 semaines de formation en milieu professionn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AG00362_" descr=""/>
          <p:cNvPicPr/>
          <p:nvPr/>
        </p:nvPicPr>
        <p:blipFill>
          <a:blip r:embed="rId1"/>
          <a:stretch/>
        </p:blipFill>
        <p:spPr>
          <a:xfrm>
            <a:off x="3809880" y="3352680"/>
            <a:ext cx="1401840" cy="1028880"/>
          </a:xfrm>
          <a:prstGeom prst="rect">
            <a:avLst/>
          </a:prstGeom>
          <a:ln w="0">
            <a:noFill/>
          </a:ln>
        </p:spPr>
      </p:pic>
      <p:sp>
        <p:nvSpPr>
          <p:cNvPr id="282" name="">
            <a:hlinkClick r:id="rId2" action="ppaction://hlinksldjump"/>
          </p:cNvPr>
          <p:cNvSpPr/>
          <p:nvPr/>
        </p:nvSpPr>
        <p:spPr>
          <a:xfrm>
            <a:off x="8610480" y="22860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1880" y="61628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>
            <a:hlinkClick r:id="rId3" action="ppaction://hlinksldjump"/>
          </p:cNvPr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AC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fessionn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>
            <a:hlinkClick r:id="rId4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>
            <a:hlinkClick r:id="rId5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457200" y="990720"/>
            <a:ext cx="8056080" cy="5257440"/>
            <a:chOff x="457200" y="990720"/>
            <a:chExt cx="8056080" cy="5257440"/>
          </a:xfrm>
        </p:grpSpPr>
        <p:grpSp>
          <p:nvGrpSpPr>
            <p:cNvPr id="289" name=""/>
            <p:cNvGrpSpPr/>
            <p:nvPr/>
          </p:nvGrpSpPr>
          <p:grpSpPr>
            <a:xfrm>
              <a:off x="467640" y="999360"/>
              <a:ext cx="8034120" cy="5239080"/>
              <a:chOff x="467640" y="999360"/>
              <a:chExt cx="8034120" cy="523908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467640" y="999360"/>
                <a:ext cx="4017240" cy="899280"/>
                <a:chOff x="467640" y="999360"/>
                <a:chExt cx="4017240" cy="8992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26320" y="999360"/>
                  <a:ext cx="3898800" cy="89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Comic Sans MS"/>
                      <a:ea typeface="Times New Roman"/>
                    </a:rPr>
                    <a:t>Domaine général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67640" y="999360"/>
                  <a:ext cx="4017240" cy="89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4485240" y="999360"/>
                <a:ext cx="4016520" cy="899280"/>
                <a:chOff x="4485240" y="999360"/>
                <a:chExt cx="4016520" cy="8992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543920" y="999360"/>
                  <a:ext cx="3898440" cy="89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Comic Sans MS"/>
                      <a:ea typeface="Times New Roman"/>
                    </a:rPr>
                    <a:t>Domaine professionnel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485240" y="999360"/>
                  <a:ext cx="4016520" cy="89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467640" y="1899000"/>
                <a:ext cx="4017240" cy="4339440"/>
                <a:chOff x="467640" y="1899000"/>
                <a:chExt cx="4017240" cy="43394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26320" y="1899000"/>
                  <a:ext cx="3898800" cy="43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Français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Mathématiques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Histoire-Géographi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Langue vivante anglais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Education artistiqu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Comic Sans MS"/>
                    </a:rPr>
                    <a:t>E.P.S.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67640" y="1899000"/>
                  <a:ext cx="4017240" cy="43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4485240" y="1899000"/>
                <a:ext cx="4016520" cy="4339440"/>
                <a:chOff x="4485240" y="1899000"/>
                <a:chExt cx="4016520" cy="43394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543920" y="1899000"/>
                  <a:ext cx="3898440" cy="43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mmunicatio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Gestion des activités administratives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Administration du personnel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Administration commercial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omptabilité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Informatiqu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485240" y="1899000"/>
                  <a:ext cx="4016520" cy="43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457200" y="990720"/>
              <a:ext cx="8056080" cy="5257440"/>
            </a:xfrm>
            <a:prstGeom prst="rect">
              <a:avLst/>
            </a:prstGeom>
            <a:noFill/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45720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formation dure deux années. Elle comprend les disciplines suivantes 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>
            <a:hlinkClick r:id="rId1" action="ppaction://hlinksldjump"/>
          </p:cNvPr>
          <p:cNvSpPr/>
          <p:nvPr/>
        </p:nvSpPr>
        <p:spPr>
          <a:xfrm>
            <a:off x="8610480" y="22860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81880" y="61628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-1295280" y="19810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-106668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309" name="">
            <a:hlinkClick r:id="rId5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>
            <a:hlinkClick r:id="rId6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457200" y="838080"/>
            <a:ext cx="838188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Débouché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s titulaires du Bac Professionnel peuven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* Entrer dans la vie active pour exercer des emplois qualifiés dans les domaines de la comptabilit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* F.C.I.L.  Suivre une étude complémentair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* Poursuivre des études en classe de B.T.S. première année ou autres études supérieures (posséder un très bon nivea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8610480" y="22860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81880" y="61628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-1828800" y="19051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rId3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>
            <a:hlinkClick r:id="rId4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457200"/>
            <a:ext cx="9550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1143000"/>
            <a:ext cx="891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.C.I.L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matio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mplémentaire d’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tiativ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a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1676520"/>
            <a:ext cx="891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asserelle pour un jeune diplôm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2286000"/>
            <a:ext cx="891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- Le public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2819520"/>
            <a:ext cx="891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Élèves diplômés du BAC-PRO. Secrétariat ou Comptabil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3352680"/>
            <a:ext cx="891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2- Objectif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3886200"/>
            <a:ext cx="8686800" cy="19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tte passerelle vise à préparer l’immersion en entreprise et à leur donner une première expérience professionnel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tte formation est aussi le moyen de former un jeune pendant un an et de voir si ses capacités sont à la hauteur des attentes des professionne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8610480" y="22860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61628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>
            <a:hlinkClick r:id="rId2" action="ppaction://hlinksldjump"/>
          </p:cNvPr>
          <p:cNvSpPr/>
          <p:nvPr/>
        </p:nvSpPr>
        <p:spPr>
          <a:xfrm>
            <a:off x="0" y="304920"/>
            <a:ext cx="914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.  C .  I .  L 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-1828800" y="19051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30" name="">
            <a:hlinkClick r:id="rId4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>
            <a:hlinkClick r:id="rId5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28600" y="10288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veau d’études atteint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c +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ée des études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 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plôme obten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revet de technicien -            supérieur (B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3314880"/>
            <a:ext cx="8686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 diplôme se prépare dans une section de techniciens supérieurs (ST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4191120"/>
            <a:ext cx="8610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’étudiant doit être titulaire du bac (ou d’un diplôme équivalent) dans une spécialisation compatible à celle du B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5257800"/>
            <a:ext cx="8839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ant le cursus, plusieurs stages sont effectué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>
            <a:hlinkClick r:id="rId1" action="ppaction://hlinksldjump"/>
          </p:cNvPr>
          <p:cNvSpPr/>
          <p:nvPr/>
        </p:nvSpPr>
        <p:spPr>
          <a:xfrm>
            <a:off x="8610480" y="22860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1880" y="61628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>
            <a:hlinkClick r:id="rId2" action="ppaction://hlinksldjump"/>
          </p:cNvPr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TS (bac +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-2133720" y="26668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341" name="">
            <a:hlinkClick r:id="rId4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>
            <a:hlinkClick r:id="rId5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04920" y="1714680"/>
            <a:ext cx="8127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500120"/>
            <a:ext cx="8458200" cy="33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a durée d’étude est de 4 a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’étudiant doit être titulaire du ba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n peut préparer un diplôme de comptabilité en université ou dans de nombreuses écoles préparant aussi au métier de comptable ou d’expert comp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81880" y="61628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AC +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>
            <a:hlinkClick r:id="rId2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>
            <a:hlinkClick r:id="rId3" action="ppaction://hlinksldjump"/>
          </p:cNvPr>
          <p:cNvSpPr/>
          <p:nvPr/>
        </p:nvSpPr>
        <p:spPr>
          <a:xfrm>
            <a:off x="8610480" y="15228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>
            <a:hlinkClick r:id="rId4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04920" y="198108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ES GRANDES ECO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e cursus est divisé en plusieurs cycles et mène jusqu’au diplôme d’expert-comp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3505320"/>
            <a:ext cx="8610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diplôme préparatoire d’études comptables et financières (DPECF) se prépare en 2 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4343400"/>
            <a:ext cx="8534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diplôme d’études comptables et financières (DECF) se prépare en 2 ou 3 a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>
            <a:hlinkClick r:id="rId1" action="ppaction://hlinksldjump"/>
          </p:cNvPr>
          <p:cNvSpPr/>
          <p:nvPr/>
        </p:nvSpPr>
        <p:spPr>
          <a:xfrm>
            <a:off x="5867280" y="5638680"/>
            <a:ext cx="1016280" cy="39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 2"/>
                <a:ea typeface="Wingdings 2"/>
              </a:rPr>
              <a:t>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533520"/>
            <a:ext cx="85341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’UNIVERSI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peut effectuer une maîtrise de sciences et techniques comptables et financières (MSTC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1880" y="61628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>
            <a:hlinkClick r:id="rId2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>
            <a:hlinkClick r:id="" action="ppaction://hlinkshowjump?jump=nextslide"/>
          </p:cNvPr>
          <p:cNvSpPr/>
          <p:nvPr/>
        </p:nvSpPr>
        <p:spPr>
          <a:xfrm>
            <a:off x="8610480" y="15228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>
            <a:hlinkClick r:id="rId3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28600" y="1905120"/>
            <a:ext cx="8610480" cy="14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Le diplôme d’études supérieures comptables et financières (DESCF) clôt le cursus théorique ; il se prépare en 1 ou 2 ans. Pour devenir expert-comptable, il faut ensuite effectuer 3 ans de st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8600" y="838080"/>
            <a:ext cx="8610480" cy="75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 Le diplôme d’études comptables et financières (DECF) se prépare en 2 ou 3 a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>
            <a:hlinkClick r:id="rId1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>
            <a:hlinkClick r:id="rId2" action="ppaction://hlinksldjump"/>
          </p:cNvPr>
          <p:cNvSpPr/>
          <p:nvPr/>
        </p:nvSpPr>
        <p:spPr>
          <a:xfrm>
            <a:off x="8610480" y="15228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381880" y="61610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>
            <a:hlinkClick r:id="rId3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oici les comman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905120"/>
            <a:ext cx="86104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omic Sans MS"/>
              </a:rPr>
              <a:t>Pour passer aux pages suivantes,        cliquer sur :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696080" y="251460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276720"/>
            <a:ext cx="86104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our passer aux pages précédentes, cliquer sur 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7772400" y="3886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54100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464832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our retourner au sommaire, cliquer sur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505320" y="5257800"/>
            <a:ext cx="4495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26668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8120" y="41148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8610480" y="15228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-2362320" y="1295280"/>
            <a:ext cx="121932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775040" y="308628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07960" y="343080"/>
            <a:ext cx="8128440" cy="1219320"/>
          </a:xfrm>
          <a:prstGeom prst="rect">
            <a:avLst/>
          </a:prstGeom>
          <a:gradFill rotWithShape="0">
            <a:gsLst>
              <a:gs pos="0">
                <a:srgbClr val="520402"/>
              </a:gs>
              <a:gs pos="100000">
                <a:srgbClr val="ffcc00"/>
              </a:gs>
            </a:gsLst>
            <a:lin ang="5400000"/>
          </a:gradFill>
          <a:ln w="12600">
            <a:solidFill>
              <a:srgbClr val="b2b2b2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1880" y="61628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243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LES COMP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ENCES G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NÉRAL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3733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LES SAVOIRS PROFESSIONNEL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5029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PPLICATION A L’ENTREPRIS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>
            <a:hlinkClick r:id="rId1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8610480" y="22860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>
            <a:hlinkClick r:id="rId2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28600" y="990360"/>
            <a:ext cx="8686800" cy="61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ahoma"/>
              </a:rPr>
              <a:t>Être ordonné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mic Sans MS"/>
                <a:ea typeface="Tahoma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us êtes méthodique, soigné, ordon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us aimez prendre des initiativ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us maîtrise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 français, les mathématiques et une langue étrangè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us aimez le contact humain et le travail sur dossi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3520" y="3962520"/>
            <a:ext cx="6298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l faut pour cel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7960" y="4464000"/>
            <a:ext cx="812808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avoi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lasser des dossiers ( indexati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nnaît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us les types de rangement ( dossier à rabats et à élastiqu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onn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s titres à toutes les parties d’un dossi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962520"/>
            <a:ext cx="9144000" cy="2725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s deux années en B.E.P vont vous permettre d’acquérir toute ces compét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81080" y="1905120"/>
            <a:ext cx="17528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57600" y="1905120"/>
            <a:ext cx="1143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800600" y="190512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81880" y="61628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049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LES COMP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ENCES G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NÉRAL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>
            <a:hlinkClick r:id="rId1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>
            <a:hlinkClick r:id="" action="ppaction://hlinkshowjump?jump=nextslide"/>
          </p:cNvPr>
          <p:cNvSpPr/>
          <p:nvPr/>
        </p:nvSpPr>
        <p:spPr>
          <a:xfrm>
            <a:off x="8610480" y="22860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>
            <a:hlinkClick r:id="rId2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92480" y="1270080"/>
            <a:ext cx="108000" cy="108000"/>
          </a:xfrm>
          <a:custGeom>
            <a:avLst/>
            <a:gdLst>
              <a:gd name="textAreaLeft" fmla="*/ 6840 w 108000"/>
              <a:gd name="textAreaRight" fmla="*/ 101160 w 108000"/>
              <a:gd name="textAreaTop" fmla="*/ 6840 h 108000"/>
              <a:gd name="textAreaBottom" fmla="*/ 1011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43200" y="2819520"/>
            <a:ext cx="108000" cy="108000"/>
          </a:xfrm>
          <a:custGeom>
            <a:avLst/>
            <a:gdLst>
              <a:gd name="textAreaLeft" fmla="*/ 6840 w 108000"/>
              <a:gd name="textAreaRight" fmla="*/ 101160 w 108000"/>
              <a:gd name="textAreaTop" fmla="*/ 6840 h 108000"/>
              <a:gd name="textAreaBottom" fmla="*/ 1011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04920" y="968400"/>
            <a:ext cx="281916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Être habile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omic Sans MS"/>
              </a:rPr>
              <a:t>(3)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1654200"/>
            <a:ext cx="891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voir manipuler les chiff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2340000"/>
            <a:ext cx="914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naître les différents comptes (qui sortent d’un plan comptable 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920" y="3330720"/>
            <a:ext cx="914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voir contrôler une fact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>
            <a:hlinkClick r:id="rId1" action="ppaction://hlinksldjump"/>
          </p:cNvPr>
          <p:cNvSpPr/>
          <p:nvPr/>
        </p:nvSpPr>
        <p:spPr>
          <a:xfrm>
            <a:off x="3657600" y="3200400"/>
            <a:ext cx="609480" cy="28584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1880" y="61628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animmai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29000" y="4005360"/>
            <a:ext cx="2371680" cy="2187360"/>
          </a:xfrm>
          <a:prstGeom prst="rect">
            <a:avLst/>
          </a:prstGeom>
          <a:ln w="0">
            <a:noFill/>
          </a:ln>
        </p:spPr>
      </p:pic>
      <p:sp>
        <p:nvSpPr>
          <p:cNvPr id="401" name="">
            <a:hlinkClick r:id="rId4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>
            <a:hlinkClick r:id="" action="ppaction://hlinkshowjump?jump=nextslide"/>
          </p:cNvPr>
          <p:cNvSpPr/>
          <p:nvPr/>
        </p:nvSpPr>
        <p:spPr>
          <a:xfrm>
            <a:off x="8610480" y="22860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>
            <a:hlinkClick r:id="rId5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049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LES COMP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ENCES G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NÉRAL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(sui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133720" y="1219320"/>
            <a:ext cx="108000" cy="108000"/>
          </a:xfrm>
          <a:custGeom>
            <a:avLst/>
            <a:gdLst>
              <a:gd name="textAreaLeft" fmla="*/ 6840 w 108000"/>
              <a:gd name="textAreaRight" fmla="*/ 101160 w 108000"/>
              <a:gd name="textAreaTop" fmla="*/ 6840 h 108000"/>
              <a:gd name="textAreaBottom" fmla="*/ 1011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609480" y="22860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Vous devez également avo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les qualités et les aptitudes suivantes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8600" y="1676520"/>
            <a:ext cx="8610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’esprit d’analyse et de synthèse, de la méthode, de                 l’ordre et le souci du détai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" y="2590920"/>
            <a:ext cx="8610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sens des responsabilités, le sens de l’organisation, un bon jugement et une capacité de concent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3505320"/>
            <a:ext cx="6248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e bonne maîtrise du frança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8600" y="4114800"/>
            <a:ext cx="8458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mer le travail avec les chiffres et les mathématiqu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8600" y="5029200"/>
            <a:ext cx="8128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mer les affair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677520" y="6162840"/>
            <a:ext cx="1422360" cy="696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Wingdings 2"/>
                <a:ea typeface="Wingdings 2"/>
                <a:hlinkClick r:id="rId1" action="ppaction://hlinksldjump"/>
              </a:rPr>
              <a:t>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>
            <a:hlinkClick r:id="rId2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81880" y="61610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>
            <a:hlinkClick r:id="" action="ppaction://hlinkshowjump?jump=nextslide"/>
          </p:cNvPr>
          <p:cNvSpPr/>
          <p:nvPr/>
        </p:nvSpPr>
        <p:spPr>
          <a:xfrm>
            <a:off x="8610480" y="22860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>
            <a:hlinkClick r:id="rId3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8949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-2192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avoir Contrôler la Gestio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(4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et le Budge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(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" y="2666880"/>
            <a:ext cx="8686800" cy="75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tre en place un système de calcu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 coûts de revient en choisissant une méthode adapté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8600" y="3657600"/>
            <a:ext cx="6858000" cy="4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Évaluer un seuil de rentabilit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" y="4267080"/>
            <a:ext cx="8381880" cy="4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ôler la productivit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" y="4952880"/>
            <a:ext cx="8534520" cy="4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éfinir une politique de pri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>
            <a:hlinkClick r:id="rId1" action="ppaction://hlinksldjump"/>
          </p:cNvPr>
          <p:cNvSpPr/>
          <p:nvPr/>
        </p:nvSpPr>
        <p:spPr>
          <a:xfrm>
            <a:off x="7823160" y="4457880"/>
            <a:ext cx="609480" cy="28548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381880" y="61628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LES SAVOIRS PROFESSIONNEL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>
            <a:hlinkClick r:id="rId2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8610480" y="22860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>
            <a:hlinkClick r:id="rId3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92480" y="1270080"/>
            <a:ext cx="108000" cy="108000"/>
          </a:xfrm>
          <a:custGeom>
            <a:avLst/>
            <a:gdLst>
              <a:gd name="textAreaLeft" fmla="*/ 6840 w 108000"/>
              <a:gd name="textAreaRight" fmla="*/ 101160 w 108000"/>
              <a:gd name="textAreaTop" fmla="*/ 6840 h 108000"/>
              <a:gd name="textAreaBottom" fmla="*/ 1011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67440" y="1547640"/>
            <a:ext cx="108000" cy="108000"/>
          </a:xfrm>
          <a:custGeom>
            <a:avLst/>
            <a:gdLst>
              <a:gd name="textAreaLeft" fmla="*/ 6840 w 108000"/>
              <a:gd name="textAreaRight" fmla="*/ 101160 w 108000"/>
              <a:gd name="textAreaTop" fmla="*/ 6840 h 108000"/>
              <a:gd name="textAreaBottom" fmla="*/ 1011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91520" y="1568520"/>
            <a:ext cx="108000" cy="108000"/>
          </a:xfrm>
          <a:custGeom>
            <a:avLst/>
            <a:gdLst>
              <a:gd name="textAreaLeft" fmla="*/ 6840 w 108000"/>
              <a:gd name="textAreaRight" fmla="*/ 101160 w 108000"/>
              <a:gd name="textAreaTop" fmla="*/ 6840 h 108000"/>
              <a:gd name="textAreaBottom" fmla="*/ 1011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1103400"/>
            <a:ext cx="91440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avoir analyser la rentabilité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mic Sans MS"/>
              </a:rPr>
              <a:t>(6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 d’un investiss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1932120"/>
            <a:ext cx="8305920" cy="4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isir des indicateurs de rentabilit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0880" y="2527200"/>
            <a:ext cx="8305920" cy="4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isir les moyens de financ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3227400"/>
            <a:ext cx="914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avoir Gérer la Trésoreri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880" y="4044960"/>
            <a:ext cx="8305920" cy="75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éterminer les besoins de financement à court terme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7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0880" y="4979880"/>
            <a:ext cx="8305920" cy="75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isir des moyens de financement à court ter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0880" y="5589720"/>
            <a:ext cx="8305920" cy="4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isir des moyens de financement à long ter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>
            <a:hlinkClick r:id="rId1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381880" y="61610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8610480" y="22860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>
            <a:hlinkClick r:id="rId2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LES SAVOIRS PROFESSIONNELS (suite)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57640" y="1352520"/>
            <a:ext cx="108000" cy="108000"/>
          </a:xfrm>
          <a:custGeom>
            <a:avLst/>
            <a:gdLst>
              <a:gd name="textAreaLeft" fmla="*/ 6840 w 108000"/>
              <a:gd name="textAreaRight" fmla="*/ 101160 w 108000"/>
              <a:gd name="textAreaTop" fmla="*/ 6840 h 108000"/>
              <a:gd name="textAreaBottom" fmla="*/ 1011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68440" y="4613400"/>
            <a:ext cx="108000" cy="108000"/>
          </a:xfrm>
          <a:custGeom>
            <a:avLst/>
            <a:gdLst>
              <a:gd name="textAreaLeft" fmla="*/ 6840 w 108000"/>
              <a:gd name="textAreaRight" fmla="*/ 101160 w 108000"/>
              <a:gd name="textAreaTop" fmla="*/ 6840 h 108000"/>
              <a:gd name="textAreaBottom" fmla="*/ 1011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1039680"/>
            <a:ext cx="91440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avoir utiliser les logiciels 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mic Sans MS"/>
              </a:rPr>
              <a:t>(8)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1765440"/>
            <a:ext cx="32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ptabil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295280" y="2451240"/>
            <a:ext cx="2286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XI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2" name="BS00580_" descr=""/>
          <p:cNvPicPr/>
          <p:nvPr/>
        </p:nvPicPr>
        <p:blipFill>
          <a:blip r:embed="rId1"/>
          <a:stretch/>
        </p:blipFill>
        <p:spPr>
          <a:xfrm>
            <a:off x="3340080" y="5302080"/>
            <a:ext cx="2263680" cy="104328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2641680" y="6229440"/>
            <a:ext cx="711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>
            <a:hlinkClick r:id="rId2" action="ppaction://hlinksldjump"/>
          </p:cNvPr>
          <p:cNvSpPr/>
          <p:nvPr/>
        </p:nvSpPr>
        <p:spPr>
          <a:xfrm>
            <a:off x="7416720" y="2057400"/>
            <a:ext cx="609840" cy="28584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>
            <a:hlinkClick r:id="rId3" action="ppaction://hlinksldjump"/>
          </p:cNvPr>
          <p:cNvSpPr/>
          <p:nvPr/>
        </p:nvSpPr>
        <p:spPr>
          <a:xfrm>
            <a:off x="914400" y="1085760"/>
            <a:ext cx="406440" cy="28584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562720" y="1765440"/>
            <a:ext cx="2209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crétari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23880" y="3594240"/>
            <a:ext cx="1676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C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4813200"/>
            <a:ext cx="2798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LAN 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562720" y="2451240"/>
            <a:ext cx="2336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81480" y="4813200"/>
            <a:ext cx="2946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0600" y="3594240"/>
            <a:ext cx="3530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WER POI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3060720"/>
            <a:ext cx="373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giciel de g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23880" y="4203720"/>
            <a:ext cx="1498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bl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" y="5423040"/>
            <a:ext cx="3962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giciel de comptabil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05520" y="3060720"/>
            <a:ext cx="2895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xt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428004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apo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19720" y="5423040"/>
            <a:ext cx="4419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stion de bases de donn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381880" y="61628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8610480" y="15228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>
            <a:hlinkClick r:id="rId4" action="ppaction://hlinksldjump"/>
          </p:cNvPr>
          <p:cNvSpPr/>
          <p:nvPr/>
        </p:nvSpPr>
        <p:spPr>
          <a:xfrm>
            <a:off x="2819520" y="617220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781680" y="60199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>
            <a:hlinkClick r:id="rId5" action="ppaction://hlinksldjump"/>
          </p:cNvPr>
          <p:cNvSpPr/>
          <p:nvPr/>
        </p:nvSpPr>
        <p:spPr>
          <a:xfrm>
            <a:off x="297180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>
            <a:hlinkClick r:id="rId6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LES SAVOIRS PROFESSIONNELS (suite)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15200" y="1316160"/>
            <a:ext cx="108000" cy="108000"/>
          </a:xfrm>
          <a:custGeom>
            <a:avLst/>
            <a:gdLst>
              <a:gd name="textAreaLeft" fmla="*/ 6840 w 108000"/>
              <a:gd name="textAreaRight" fmla="*/ 101160 w 108000"/>
              <a:gd name="textAreaTop" fmla="*/ 6840 h 108000"/>
              <a:gd name="textAreaBottom" fmla="*/ 1011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0" y="609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La comptabilité, vous permet de participer aux actions suivantes au sein de l'entreprise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3520" y="2048040"/>
            <a:ext cx="2590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comptabil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553080" y="2048040"/>
            <a:ext cx="137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pay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657600" y="2048040"/>
            <a:ext cx="2362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factu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2581200"/>
            <a:ext cx="2133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fiscal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2581200"/>
            <a:ext cx="1905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bud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297180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Voici les milieux de travail qui seront ouverts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4008600"/>
            <a:ext cx="4267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s bureaux de comptabil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81480" y="4008600"/>
            <a:ext cx="3124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s grands magas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81480" y="4618080"/>
            <a:ext cx="2971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s gouvern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480" y="5248440"/>
            <a:ext cx="7239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s petites et moyennes entreprises (P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-685800" y="228600"/>
            <a:ext cx="98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PPLICATION A L’ENTREPRIS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>
            <a:hlinkClick r:id="rId1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381880" y="61610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>
            <a:hlinkClick r:id="" action="ppaction://hlinkshowjump?jump=nextslide"/>
          </p:cNvPr>
          <p:cNvSpPr/>
          <p:nvPr/>
        </p:nvSpPr>
        <p:spPr>
          <a:xfrm>
            <a:off x="8610480" y="22860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>
            <a:hlinkClick r:id="rId2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480" y="4618080"/>
            <a:ext cx="4267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s institutions financiè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1523880"/>
            <a:ext cx="914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Les salaires horaires varient selon les grades acqu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304920"/>
            <a:ext cx="91440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ttention 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7" name="AG00550_" descr=""/>
          <p:cNvPicPr/>
          <p:nvPr/>
        </p:nvPicPr>
        <p:blipFill>
          <a:blip r:embed="rId1"/>
          <a:stretch/>
        </p:blipFill>
        <p:spPr>
          <a:xfrm>
            <a:off x="3505320" y="3733920"/>
            <a:ext cx="2485800" cy="2022480"/>
          </a:xfrm>
          <a:prstGeom prst="rect">
            <a:avLst/>
          </a:prstGeom>
          <a:ln w="0">
            <a:noFill/>
          </a:ln>
        </p:spPr>
      </p:pic>
      <p:sp>
        <p:nvSpPr>
          <p:cNvPr id="498" name="">
            <a:hlinkClick r:id="rId2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381880" y="61610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>
            <a:hlinkClick r:id="" action="ppaction://hlinkshowjump?jump=nextslide"/>
          </p:cNvPr>
          <p:cNvSpPr/>
          <p:nvPr/>
        </p:nvSpPr>
        <p:spPr>
          <a:xfrm>
            <a:off x="8610480" y="22860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>
            <a:hlinkClick r:id="rId3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1676520" y="380880"/>
            <a:ext cx="5689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es promotion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" y="2438280"/>
            <a:ext cx="8915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QU’EST CE QU’UNE PROMOTION 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>
            <a:hlinkClick r:id="rId1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4038480"/>
            <a:ext cx="8915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LES GRADES ACCESSIBL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>
            <a:hlinkClick r:id="rId2" action="ppaction://hlinksldjump"/>
          </p:cNvPr>
          <p:cNvSpPr/>
          <p:nvPr/>
        </p:nvSpPr>
        <p:spPr>
          <a:xfrm>
            <a:off x="990720" y="2209680"/>
            <a:ext cx="7315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00200" y="3733920"/>
            <a:ext cx="5638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>
            <a:hlinkClick r:id="rId3" action="ppaction://hlinksldjump"/>
          </p:cNvPr>
          <p:cNvSpPr/>
          <p:nvPr/>
        </p:nvSpPr>
        <p:spPr>
          <a:xfrm>
            <a:off x="1600200" y="3657600"/>
            <a:ext cx="5867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381880" y="61610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>
            <a:hlinkClick r:id="" action="ppaction://hlinkshowjump?jump=nextslide"/>
          </p:cNvPr>
          <p:cNvSpPr/>
          <p:nvPr/>
        </p:nvSpPr>
        <p:spPr>
          <a:xfrm>
            <a:off x="8610480" y="22860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>
            <a:hlinkClick r:id="rId4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0880" y="228600"/>
            <a:ext cx="838224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 u="sng">
                <a:solidFill>
                  <a:srgbClr val="000000"/>
                </a:solidFill>
                <a:uFillTx/>
                <a:latin typeface="Comic Sans MS"/>
              </a:rPr>
              <a:t>Venez Découvri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 u="sng">
                <a:solidFill>
                  <a:srgbClr val="000000"/>
                </a:solidFill>
                <a:uFillTx/>
                <a:latin typeface="Comic Sans MS"/>
              </a:rPr>
              <a:t>les métiers de la</a:t>
            </a:r>
            <a:r>
              <a:rPr b="1" lang="fr-FR" sz="34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Lucida Handwriting"/>
              </a:rPr>
              <a:t>                                     </a:t>
            </a:r>
            <a:r>
              <a:rPr b="1" lang="fr-FR" sz="3400" spc="-1" strike="noStrike" u="sng">
                <a:solidFill>
                  <a:srgbClr val="000000"/>
                </a:solidFill>
                <a:uFillTx/>
                <a:latin typeface="Comic Sans MS"/>
              </a:rPr>
              <a:t>comptabilité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680" y="3733920"/>
            <a:ext cx="3861000" cy="6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Formations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5" name="BD09244_" descr=""/>
          <p:cNvPicPr/>
          <p:nvPr/>
        </p:nvPicPr>
        <p:blipFill>
          <a:blip r:embed="rId1"/>
          <a:stretch/>
        </p:blipFill>
        <p:spPr>
          <a:xfrm>
            <a:off x="6095880" y="3809880"/>
            <a:ext cx="1755720" cy="727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914400" y="5867280"/>
            <a:ext cx="4165560" cy="6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Promotions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3962520"/>
            <a:ext cx="484200" cy="203040"/>
          </a:xfrm>
          <a:custGeom>
            <a:avLst/>
            <a:gdLst>
              <a:gd name="textAreaLeft" fmla="*/ 75600 w 484200"/>
              <a:gd name="textAreaRight" fmla="*/ 423720 w 484200"/>
              <a:gd name="textAreaTop" fmla="*/ 50760 h 203040"/>
              <a:gd name="textAreaBottom" fmla="*/ 152280 h 203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181480"/>
            <a:ext cx="484200" cy="203400"/>
          </a:xfrm>
          <a:custGeom>
            <a:avLst/>
            <a:gdLst>
              <a:gd name="textAreaLeft" fmla="*/ 75600 w 484200"/>
              <a:gd name="textAreaRight" fmla="*/ 423720 w 484200"/>
              <a:gd name="textAreaTop" fmla="*/ 50760 h 203400"/>
              <a:gd name="textAreaBottom" fmla="*/ 152640 h 203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6172200"/>
            <a:ext cx="484200" cy="203040"/>
          </a:xfrm>
          <a:custGeom>
            <a:avLst/>
            <a:gdLst>
              <a:gd name="textAreaLeft" fmla="*/ 75600 w 484200"/>
              <a:gd name="textAreaRight" fmla="*/ 423720 w 484200"/>
              <a:gd name="textAreaTop" fmla="*/ 50760 h 203040"/>
              <a:gd name="textAreaBottom" fmla="*/ 152280 h 203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064040" y="4876920"/>
            <a:ext cx="5079960" cy="83808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mpétenc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114800" y="2819520"/>
            <a:ext cx="41655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ntrepris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3048120"/>
            <a:ext cx="484200" cy="203040"/>
          </a:xfrm>
          <a:custGeom>
            <a:avLst/>
            <a:gdLst>
              <a:gd name="textAreaLeft" fmla="*/ 75600 w 484200"/>
              <a:gd name="textAreaRight" fmla="*/ 423720 w 484200"/>
              <a:gd name="textAreaTop" fmla="*/ 50760 h 203040"/>
              <a:gd name="textAreaBottom" fmla="*/ 152280 h 203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homme_valise" descr=""/>
          <p:cNvPicPr/>
          <p:nvPr/>
        </p:nvPicPr>
        <p:blipFill>
          <a:blip r:embed="rId2"/>
          <a:stretch/>
        </p:blipFill>
        <p:spPr>
          <a:xfrm>
            <a:off x="1828800" y="4648320"/>
            <a:ext cx="1066680" cy="1098360"/>
          </a:xfrm>
          <a:prstGeom prst="rect">
            <a:avLst/>
          </a:prstGeom>
          <a:ln w="0">
            <a:noFill/>
          </a:ln>
        </p:spPr>
      </p:pic>
      <p:pic>
        <p:nvPicPr>
          <p:cNvPr id="184" name="info005" descr=""/>
          <p:cNvPicPr/>
          <p:nvPr/>
        </p:nvPicPr>
        <p:blipFill>
          <a:blip r:embed="rId3"/>
          <a:stretch/>
        </p:blipFill>
        <p:spPr>
          <a:xfrm>
            <a:off x="685800" y="2133720"/>
            <a:ext cx="1447920" cy="1314360"/>
          </a:xfrm>
          <a:prstGeom prst="rect">
            <a:avLst/>
          </a:prstGeom>
          <a:ln w="0">
            <a:noFill/>
          </a:ln>
        </p:spPr>
      </p:pic>
      <p:pic>
        <p:nvPicPr>
          <p:cNvPr id="185" name="AG00029_" descr=""/>
          <p:cNvPicPr/>
          <p:nvPr/>
        </p:nvPicPr>
        <p:blipFill>
          <a:blip r:embed="rId4"/>
          <a:stretch/>
        </p:blipFill>
        <p:spPr>
          <a:xfrm>
            <a:off x="7391520" y="5867280"/>
            <a:ext cx="990360" cy="763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-1066680" y="22096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-1066680" y="457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228600" y="10666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’est une nomination, accession d'une ou de plusieurs personnes à un grade ou à une dignité plus élevée, à une fonction ou à une position hiérarchique plus importa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920" y="2362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 sein d’une entreprise vous pouvez évoluer dans votre carrière de différentes maniè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4920" y="44197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s vous donneront l’occasion d’accentuer vos compétences et donc de changer de gr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04920" y="3200400"/>
            <a:ext cx="8534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ur y parvenir, vous aurez la possibilité de passer de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cou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 suivre de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g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u de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m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457200"/>
            <a:ext cx="914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QU’EST CE QU’UNE PROMOTION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1143000"/>
            <a:ext cx="9144000" cy="504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UTE PROMOTION EST ASSORTIE D’U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UGMENTAION DE SALA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0" name="AG00550_" descr=""/>
          <p:cNvPicPr/>
          <p:nvPr/>
        </p:nvPicPr>
        <p:blipFill>
          <a:blip r:embed="rId1"/>
          <a:stretch/>
        </p:blipFill>
        <p:spPr>
          <a:xfrm>
            <a:off x="3429000" y="5181480"/>
            <a:ext cx="2540160" cy="1163880"/>
          </a:xfrm>
          <a:prstGeom prst="rect">
            <a:avLst/>
          </a:prstGeom>
          <a:ln w="0">
            <a:noFill/>
          </a:ln>
        </p:spPr>
      </p:pic>
      <p:sp>
        <p:nvSpPr>
          <p:cNvPr id="521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381880" y="61610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>
            <a:hlinkClick r:id="" action="ppaction://hlinkshowjump?jump=nextslide"/>
          </p:cNvPr>
          <p:cNvSpPr/>
          <p:nvPr/>
        </p:nvSpPr>
        <p:spPr>
          <a:xfrm>
            <a:off x="8610480" y="22860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1981080" y="1905120"/>
            <a:ext cx="5283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es salariés peuvent évoluer dans différents grades tels qu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6" name="pencil1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743200" cy="15433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149640" y="3809880"/>
            <a:ext cx="5283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49640" y="3200400"/>
            <a:ext cx="2895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de-comp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149640" y="5029200"/>
            <a:ext cx="5308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t-comp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49640" y="4419720"/>
            <a:ext cx="477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f-comp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381880" y="61628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>
            <a:hlinkClick r:id="rId2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3" name="j0076132" descr=""/>
          <p:cNvPicPr/>
          <p:nvPr/>
        </p:nvPicPr>
        <p:blipFill>
          <a:blip r:embed="rId3"/>
          <a:stretch/>
        </p:blipFill>
        <p:spPr>
          <a:xfrm>
            <a:off x="0" y="1066680"/>
            <a:ext cx="1727280" cy="91152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0" y="380880"/>
            <a:ext cx="914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LES GRADE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ESSIBLES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>
            <a:hlinkClick r:id="" action="ppaction://hlinkshowjump?jump=nextslide"/>
          </p:cNvPr>
          <p:cNvSpPr/>
          <p:nvPr/>
        </p:nvSpPr>
        <p:spPr>
          <a:xfrm>
            <a:off x="8610480" y="22860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9" name="feu%20d'artific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 txBox="1"/>
          <p:nvPr/>
        </p:nvSpPr>
        <p:spPr>
          <a:xfrm>
            <a:off x="1015920" y="457200"/>
            <a:ext cx="72136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Remerciemen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6286680"/>
            <a:ext cx="91440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d63d"/>
                </a:solidFill>
                <a:latin typeface="Comic Sans MS"/>
                <a:ea typeface="Times New Roman"/>
              </a:rPr>
              <a:t>Les élèves de Terminale Comptabil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1542960"/>
            <a:ext cx="9144000" cy="52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llegro BT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us remercions les tuteurs et les responsables d’entreprise, ainsi que toutes les personnes qui nous ont accueillis très aimable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erci également aux anciens élèves d’avoir répondu à nos questions ce qui nous a permis de réaliser ce proje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us avons beaucoup apprécié les renseignements qui nous ont été fournis sur notre futur métier de compt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us espérons que ce diaporama vous aura intéressé et donné envie de venir aux futures portes ouvertes du Lycée Professionnel Edouard BRANLY de La Roche sur Y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ff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381880" y="61628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-1017720"/>
            <a:ext cx="9144000" cy="86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donné (être)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tre en ordre, classer, ran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îtriser 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rendre maître de forces difficilement contrôlab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abile (être)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i fait preuve d’adresse manuelle, de savoir-faire, de connaissanc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estion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tion ou manière de gérer, d’administrer, de diriger ou d’organiser quelque cho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udget 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semble des recettes et des dépenses d’un particulier, d’une famille, d’un groupe; somme dont on dispo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ntabilité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ractère de ce qui est rent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ux de rentabilité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Rapport entre les bénéfices d’une entreprise et les capitaux engagé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-105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6" name="BS00975_" descr=""/>
          <p:cNvPicPr/>
          <p:nvPr/>
        </p:nvPicPr>
        <p:blipFill>
          <a:blip r:embed="rId1"/>
          <a:stretch/>
        </p:blipFill>
        <p:spPr>
          <a:xfrm>
            <a:off x="0" y="68400"/>
            <a:ext cx="3060720" cy="16365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3352680" y="811080"/>
            <a:ext cx="4940280" cy="7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"/>
              </a:rPr>
              <a:t>LEXIQUE</a:t>
            </a:r>
            <a:endParaRPr b="1" i="1" lang="en-US" sz="7200" spc="1" strike="noStrike">
              <a:ln w="9360">
                <a:solidFill>
                  <a:srgbClr val="666699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"/>
              <a:ea typeface="comic"/>
            </a:endParaRPr>
          </a:p>
        </p:txBody>
      </p:sp>
      <p:sp>
        <p:nvSpPr>
          <p:cNvPr id="548" name="">
            <a:hlinkClick r:id="rId2" action="ppaction://hlinksldjump"/>
          </p:cNvPr>
          <p:cNvSpPr/>
          <p:nvPr/>
        </p:nvSpPr>
        <p:spPr>
          <a:xfrm>
            <a:off x="0" y="1897200"/>
            <a:ext cx="2641680" cy="28548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>
            <a:hlinkClick r:id="rId3" action="ppaction://hlinksldjump"/>
          </p:cNvPr>
          <p:cNvSpPr/>
          <p:nvPr/>
        </p:nvSpPr>
        <p:spPr>
          <a:xfrm>
            <a:off x="0" y="3325680"/>
            <a:ext cx="9144000" cy="38124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>
            <a:hlinkClick r:id="rId4" action="ppaction://hlinksldjump"/>
          </p:cNvPr>
          <p:cNvSpPr/>
          <p:nvPr/>
        </p:nvSpPr>
        <p:spPr>
          <a:xfrm>
            <a:off x="0" y="4011480"/>
            <a:ext cx="9144000" cy="60984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4849920"/>
            <a:ext cx="9144000" cy="76176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>
            <a:hlinkClick r:id="rId5" action="ppaction://hlinksldjump"/>
          </p:cNvPr>
          <p:cNvSpPr/>
          <p:nvPr/>
        </p:nvSpPr>
        <p:spPr>
          <a:xfrm>
            <a:off x="0" y="5764320"/>
            <a:ext cx="9144000" cy="99036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3040" y="2011320"/>
            <a:ext cx="5283360" cy="47628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>
            <a:hlinkClick r:id="rId6" action="ppaction://hlinksldjump"/>
          </p:cNvPr>
          <p:cNvSpPr/>
          <p:nvPr/>
        </p:nvSpPr>
        <p:spPr>
          <a:xfrm>
            <a:off x="0" y="2716200"/>
            <a:ext cx="7162920" cy="45720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5791320"/>
            <a:ext cx="9144000" cy="106668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228600"/>
            <a:ext cx="9144000" cy="20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urt terme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ans la perspective d’une échéance rapproché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giciel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semble des programmes, des procédures et des règles, et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1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ventuellement de la documentation, relatifs au fonctionnement d’u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1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emble de traitement de l’information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228600"/>
            <a:ext cx="6934320" cy="68580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990720"/>
            <a:ext cx="9144000" cy="99036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frappe%20sur%20ordinateur" descr=""/>
          <p:cNvPicPr/>
          <p:nvPr/>
        </p:nvPicPr>
        <p:blipFill>
          <a:blip r:embed="rId1"/>
          <a:stretch/>
        </p:blipFill>
        <p:spPr>
          <a:xfrm>
            <a:off x="4038480" y="2743200"/>
            <a:ext cx="1270080" cy="946080"/>
          </a:xfrm>
          <a:prstGeom prst="rect">
            <a:avLst/>
          </a:prstGeom>
          <a:ln w="0">
            <a:noFill/>
          </a:ln>
        </p:spPr>
      </p:pic>
      <p:pic>
        <p:nvPicPr>
          <p:cNvPr id="189" name="homme_valise" descr=""/>
          <p:cNvPicPr/>
          <p:nvPr/>
        </p:nvPicPr>
        <p:blipFill>
          <a:blip r:embed="rId2"/>
          <a:stretch/>
        </p:blipFill>
        <p:spPr>
          <a:xfrm>
            <a:off x="3733920" y="4952880"/>
            <a:ext cx="1523880" cy="10670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381880" y="61628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676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RVICE COMPTABILI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886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UTRES SERVI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>
            <a:hlinkClick r:id="rId3" action="ppaction://hlinksldjump"/>
          </p:cNvPr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14600" y="380880"/>
            <a:ext cx="41655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ntrepris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5" name="">
            <a:hlinkClick r:id="rId4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-2133720" y="281952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rId6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>
            <a:hlinkClick r:id="rId7" action="ppaction://hlinksldjump"/>
          </p:cNvPr>
          <p:cNvSpPr/>
          <p:nvPr/>
        </p:nvSpPr>
        <p:spPr>
          <a:xfrm>
            <a:off x="457200" y="152388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>
            <a:hlinkClick r:id="rId8" action="ppaction://hlinksldjump"/>
          </p:cNvPr>
          <p:cNvSpPr/>
          <p:nvPr/>
        </p:nvSpPr>
        <p:spPr>
          <a:xfrm>
            <a:off x="304920" y="373392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8610480" y="22860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msotw9_temp0" descr=""/>
          <p:cNvPicPr/>
          <p:nvPr/>
        </p:nvPicPr>
        <p:blipFill>
          <a:blip r:embed="rId1"/>
          <a:srcRect l="0" t="15183" r="8504" b="10579"/>
          <a:stretch/>
        </p:blipFill>
        <p:spPr>
          <a:xfrm>
            <a:off x="3048120" y="2133720"/>
            <a:ext cx="3047760" cy="29034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5181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permet d’enregistrer différentes opérations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219320"/>
            <a:ext cx="914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plan comptable le document de base, il regroupe tous les comptes et leurs co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610480" y="22860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1880" y="61628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RVICE COMPTABILI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-1371600" y="1828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rId3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>
            <a:hlinkClick r:id="rId4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-360" y="1523520"/>
            <a:ext cx="396252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Débit       Créd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411           7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client)            (vent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rchandis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512            4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banque)             (clien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msotw9_temp0" descr=""/>
          <p:cNvPicPr/>
          <p:nvPr/>
        </p:nvPicPr>
        <p:blipFill>
          <a:blip r:embed="rId1"/>
          <a:srcRect l="65846" t="17431" r="8504" b="31470"/>
          <a:stretch/>
        </p:blipFill>
        <p:spPr>
          <a:xfrm>
            <a:off x="5257800" y="1447920"/>
            <a:ext cx="2570040" cy="4105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057400" y="1828800"/>
            <a:ext cx="0" cy="1200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2057400"/>
            <a:ext cx="38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3276720"/>
            <a:ext cx="0" cy="131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373392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29000" y="4572000"/>
            <a:ext cx="1676520" cy="838080"/>
          </a:xfrm>
          <a:prstGeom prst="line">
            <a:avLst/>
          </a:prstGeom>
          <a:ln w="50760">
            <a:solidFill>
              <a:srgbClr val="fbd5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5334120"/>
            <a:ext cx="1117440" cy="304560"/>
          </a:xfrm>
          <a:prstGeom prst="ellipse">
            <a:avLst/>
          </a:prstGeom>
          <a:noFill/>
          <a:ln w="38160">
            <a:solidFill>
              <a:srgbClr val="fbd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8610480" y="22860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1880" y="61628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e Plan Compta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-1371600" y="19051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24" name="">
            <a:hlinkClick r:id="rId4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>
            <a:hlinkClick r:id="rId5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133720" y="2209680"/>
          <a:ext cx="515304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09680"/>
                    <a:ext cx="5153040" cy="4013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53753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omptabilité ne peut exister sans les services secrétariat  et commerc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souris1" descr=""/>
          <p:cNvPicPr/>
          <p:nvPr/>
        </p:nvPicPr>
        <p:blipFill>
          <a:blip r:embed="rId3"/>
          <a:stretch/>
        </p:blipFill>
        <p:spPr>
          <a:xfrm>
            <a:off x="2209680" y="2286000"/>
            <a:ext cx="860400" cy="84132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rId4" action="ppaction://hlinksldjump"/>
          </p:cNvPr>
          <p:cNvSpPr/>
          <p:nvPr/>
        </p:nvSpPr>
        <p:spPr>
          <a:xfrm>
            <a:off x="8610480" y="22860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1880" y="61628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UTRES SERVI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-1371600" y="20574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rId6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>
            <a:hlinkClick r:id="rId7" action="ppaction://hlinksldjump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>
            <a:hlinkClick r:id="rId8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1676520"/>
            <a:ext cx="8153280" cy="4190760"/>
          </a:xfrm>
          <a:prstGeom prst="triangle">
            <a:avLst>
              <a:gd name="adj" fmla="val 49546"/>
            </a:avLst>
          </a:prstGeom>
          <a:solidFill>
            <a:srgbClr val="fbd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0" y="518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EP Métiers  de la comptabilit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1752480" y="4419720"/>
            <a:ext cx="556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BAC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Professionnel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rId3" action="ppaction://hlinksldjump"/>
          </p:cNvPr>
          <p:cNvSpPr/>
          <p:nvPr/>
        </p:nvSpPr>
        <p:spPr>
          <a:xfrm>
            <a:off x="2666880" y="3048120"/>
            <a:ext cx="38102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</a:rPr>
              <a:t>BTS (bac +2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>
            <a:hlinkClick r:id="rId4" action="ppaction://hlinksldjump"/>
          </p:cNvPr>
          <p:cNvSpPr/>
          <p:nvPr/>
        </p:nvSpPr>
        <p:spPr>
          <a:xfrm>
            <a:off x="3124080" y="2362320"/>
            <a:ext cx="2641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</a:rPr>
              <a:t>BAC+4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>
            <a:hlinkClick r:id="rId5" action="ppaction://hlinksldjump"/>
          </p:cNvPr>
          <p:cNvSpPr/>
          <p:nvPr/>
        </p:nvSpPr>
        <p:spPr>
          <a:xfrm>
            <a:off x="2590920" y="3733920"/>
            <a:ext cx="41148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F.  C.  I.  L.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981080" y="380880"/>
            <a:ext cx="5029200" cy="857520"/>
          </a:xfrm>
          <a:prstGeom prst="rect">
            <a:avLst/>
          </a:prstGeom>
        </p:spPr>
        <p:txBody>
          <a:bodyPr wrap="none" lIns="90000" rIns="90000" tIns="46800" bIns="46800" anchor="ctr">
            <a:prstTxWarp prst="textFadeUp">
              <a:avLst>
                <a:gd name="adj" fmla="val 9991"/>
              </a:avLst>
            </a:prstTxWarp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000000"/>
                </a:outerShdw>
              </a:effectLst>
              <a:latin typeface="Futura Md BT"/>
              <a:ea typeface="Futura Md BT"/>
            </a:endParaRPr>
          </a:p>
        </p:txBody>
      </p:sp>
      <p:sp>
        <p:nvSpPr>
          <p:cNvPr id="245" name=""/>
          <p:cNvSpPr/>
          <p:nvPr/>
        </p:nvSpPr>
        <p:spPr>
          <a:xfrm>
            <a:off x="8381880" y="61628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-1143000" y="25146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47" name="">
            <a:hlinkClick r:id="rId7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>
            <a:hlinkClick r:id="rId8" action="ppaction://hlinksldjump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8610480" y="22860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>
            <a:hlinkClick r:id="rId9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04920" y="1828800"/>
            <a:ext cx="8458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a formation couvre des champs d’activités divers comme 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’étude de l’organisation d’une entreprise, des documents commerciaux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’étude techniques de base de comptabilité et de secrétari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531504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28600"/>
            <a:ext cx="9144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81880" y="61628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0" y="3808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EP Métiers  de la comptabilit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-1447920" y="17524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rId3" action="ppaction://hlinksldjump"/>
          </p:cNvPr>
          <p:cNvSpPr/>
          <p:nvPr/>
        </p:nvSpPr>
        <p:spPr>
          <a:xfrm>
            <a:off x="2819520" y="616104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7632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>
            <a:hlinkClick r:id="rId4" action="ppaction://hlinksldjump"/>
          </p:cNvPr>
          <p:cNvSpPr/>
          <p:nvPr/>
        </p:nvSpPr>
        <p:spPr>
          <a:xfrm>
            <a:off x="8610480" y="152280"/>
            <a:ext cx="341280" cy="277920"/>
          </a:xfrm>
          <a:custGeom>
            <a:avLst/>
            <a:gdLst>
              <a:gd name="textAreaLeft" fmla="*/ 18000 w 341280"/>
              <a:gd name="textAreaRight" fmla="*/ 323280 w 34128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6518" h="21600">
                <a:moveTo>
                  <a:pt x="0" y="0"/>
                </a:moveTo>
                <a:lnTo>
                  <a:pt x="26518" y="0"/>
                </a:lnTo>
                <a:lnTo>
                  <a:pt x="26518" y="21600"/>
                </a:lnTo>
                <a:lnTo>
                  <a:pt x="0" y="21600"/>
                </a:lnTo>
                <a:close/>
              </a:path>
              <a:path fill="lightenLess" w="26518" h="21600">
                <a:moveTo>
                  <a:pt x="0" y="0"/>
                </a:moveTo>
                <a:lnTo>
                  <a:pt x="26518" y="0"/>
                </a:lnTo>
                <a:lnTo>
                  <a:pt x="25118" y="1400"/>
                </a:lnTo>
                <a:lnTo>
                  <a:pt x="1400" y="1400"/>
                </a:lnTo>
                <a:close/>
              </a:path>
              <a:path fill="darken" w="26518" h="21600">
                <a:moveTo>
                  <a:pt x="26518" y="0"/>
                </a:moveTo>
                <a:lnTo>
                  <a:pt x="26518" y="21600"/>
                </a:lnTo>
                <a:lnTo>
                  <a:pt x="25118" y="20200"/>
                </a:lnTo>
                <a:lnTo>
                  <a:pt x="25118" y="1400"/>
                </a:lnTo>
                <a:close/>
              </a:path>
              <a:path fill="darkenLess" w="26518" h="21600">
                <a:moveTo>
                  <a:pt x="2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8" y="20200"/>
                </a:lnTo>
                <a:close/>
              </a:path>
              <a:path fill="lighten" w="2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8" h="21600">
                <a:moveTo>
                  <a:pt x="6253" y="3794"/>
                </a:moveTo>
                <a:lnTo>
                  <a:pt x="20265" y="10800"/>
                </a:lnTo>
                <a:lnTo>
                  <a:pt x="6253" y="1780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81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>
            <a:hlinkClick r:id="rId5" action="ppaction://hlinksldjump"/>
          </p:cNvPr>
          <p:cNvSpPr/>
          <p:nvPr/>
        </p:nvSpPr>
        <p:spPr>
          <a:xfrm>
            <a:off x="0" y="64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TOUR AU SOMM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10:16:07Z</dcterms:created>
  <dc:creator>Lycée Edouard Branly</dc:creator>
  <dc:description/>
  <dc:language>en-US</dc:language>
  <cp:lastModifiedBy>lp branly</cp:lastModifiedBy>
  <dcterms:modified xsi:type="dcterms:W3CDTF">2003-07-03T10:04:49Z</dcterms:modified>
  <cp:revision>249</cp:revision>
  <dc:subject/>
  <dc:title>Présentation PowerPoint</dc:title>
</cp:coreProperties>
</file>